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3EF-4D1E-46C7-970E-1459B77D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65A-158F-42A0-A294-A24D809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04F-6090-457A-97CB-439A934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023-6EF7-44FE-BE16-76530434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6081-FB4E-4A98-9D59-FD6D0552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F45-F657-4A0C-AC04-244E8F9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FD1C-5AD9-47C9-A64E-4208033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7B7C-7414-48FA-B92A-82E06CDD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B098-C014-4A11-8088-7221D2A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4A1A-66C9-437C-92FE-B060A3DD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A30-7E0F-4440-BA94-1793317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B9A-27C3-4D09-8C95-2DEAFBA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A458-B9BC-4C8D-8C89-1195BD1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FA5-D708-4F74-9B72-36A2425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544A-32EF-46AF-B44B-251281F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5E1E-79D0-4D15-991F-0A53535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02C-1835-4590-A818-45089343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867-6415-4FA7-931B-4730E993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EE8-C90B-4E7C-B594-F7F9090E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656-0268-416B-A646-8C71D4F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0DC-5E42-4B2D-AB92-5CF5061B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7F8-3C01-45D1-9513-1532575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82A-C2B4-4238-BF29-4DE801F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9A3-12C0-487D-9EA9-2061531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D6D-1585-4CFB-8331-B45F721241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AAB-30A4-43A2-9D15-66BB4ADF5B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smarck- Opportunist or Architec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eb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ter in life, after Germany had been unified, Bismarck encouraged the belief that his actions to achieve unification had been part of a carefully-orchestrated plan. However, in terms of historiography, it is possible to find evidence to support both of the key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* That he had very broad goals and seized opportunities to further these goals as and when they arose, through his own efforts and/or through, for example, the mistakes of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* That he did have clearly-defined goals and an approximate programme for un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smarck the Opportun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statesman is like a man wandering in the forest who knows his general direction but not the exact point at which he will emerge from the wood.”Bismar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ismarck’s task of unifying Germany was made easier by circumstances. If he played his hand with great skill, it was a good one in the first place.”G.L. Mo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portunist cont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s policies can at best be regarded as flexible” Aron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smarck did not fashion German unity alone. He exploited powerful forces which already existed – economic, liberalism and nationalism.” William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s diplomacy was much more subtle, flexible and many-sided than his utterances sometimes suggest.” William Car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 did not control events, but was influenced by them.” McKi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smarck as Architec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ussia must gather and consolidate her strength for the favourable moment.” Bismar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was he [Bismarck] who created the conditions which rendered possible the creation of Great Germany.” Hit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ly under the stimulation provided by Bismarck….did German nationalism begin to move the masses.” Pfla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 cont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mith who forged the Reich.” Hi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bsolutely no doubt that he [Bismarck] set his sights on Austria…..and worked to isolate her from the other European powers.” Cameron, Robertson and Henders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did not doubt that a Franco-German war must take place before the construction of a united Germany could be realised.” Bismar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07:15Z</dcterms:created>
  <dc:creator>FDunlop</dc:creator>
  <dc:description/>
  <dc:language>en-US</dc:language>
  <cp:lastModifiedBy>FDunlop</cp:lastModifiedBy>
  <dcterms:modified xsi:type="dcterms:W3CDTF">2010-01-18T14:13:41Z</dcterms:modified>
  <cp:revision>10</cp:revision>
  <dc:subject/>
  <dc:title>Bismarck- Planner or Opportunist?</dc:title>
</cp:coreProperties>
</file>